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5BF-4A41-4C23-B4CF-026FCB82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88B-4E5A-4763-81E9-85A5FF6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CEC-1C53-4024-A438-3843D891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C4B-84D6-4661-9749-140629CE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2F1-6CD4-438B-BF3C-E015B86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FE3-C0A4-40A3-A664-D6A4BE3E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14B-E54C-4908-AFE9-D2EE82E1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B87-09AA-406D-B9FC-A26F0E91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4C4-AEAC-4217-91F7-69174352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17E-7F79-4D7C-BD18-CF0D851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5F2-3FCC-425E-8D76-47788CE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42B-B5E8-42E5-9663-E30E3C3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67A8-C715-45DB-B59F-B43217FF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gclips.com/movie-clips/cinderella-man/breaking-my-promise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4-2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work with my peers to develop a deeper understanding of the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parent do you agree with? 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771120" y="563868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ingclips.com/movie-clips/cinderella-man/breaking-my-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assigned reading pages and job page for the discussion which will take place the second half of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on your Thoughtful Text 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all of the work, you may get with your group members to work on your trailer, read your SSR book, or work on the “I Can”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las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ll members of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ember speak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oup members will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must 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ut dow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fornian FB"/>
              </a:rPr>
              <a:t>Discussion Tasks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Discussion Dir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t in your “two c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iterary Luminary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co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Word Wizard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p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Creative Conn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ke one from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telligent Illustra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 corners quick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share your “Thoughtful Text”, take a card every time you share a piece of text or respon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deas for Invisible Children 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are the kids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are the kids in danger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has the group “Invisible Children” done for the kids so f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will the money raised go?  What purpose do the funds se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y should people d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Powerful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Statements from the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1:53:42Z</dcterms:created>
  <dc:creator>Administrator</dc:creator>
  <dc:description/>
  <dc:language>en-US</dc:language>
  <cp:lastModifiedBy>Administrator</cp:lastModifiedBy>
  <dcterms:modified xsi:type="dcterms:W3CDTF">2011-04-26T02:05:47Z</dcterms:modified>
  <cp:revision>5</cp:revision>
  <dc:subject/>
  <dc:title>Do Now 4-26 I can work with my peers to develop a deeper understanding of the text.</dc:title>
</cp:coreProperties>
</file>